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gif" ContentType="image/gif"/>
  <Override PartName="/ppt/media/image12.jpeg" ContentType="image/jpeg"/>
  <Override PartName="/ppt/media/image6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3BB5-29B2-44AC-ABF6-3A33D575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2551-6F7E-4A89-8C8E-74F8225B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7E4D-33E1-4ACE-B750-655062AB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9204-06E9-40E7-85E5-37139DEC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25A2-1141-47EA-9998-3EFDBABA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C533E-72B5-4B32-AC63-33D02F2D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D322-B50B-4367-BF6D-8A23288C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28FA-5109-4CE2-81FE-DB3F0B62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EE7C-F1CB-497F-9E9D-9FEB10163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0AB1-F1A9-4722-8A84-AE272F76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1801-4F3D-40E3-B2A9-B5E0B598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1CAA-91E5-45E6-B157-5BEE64ED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500D-EB04-4DD6-A537-324B61980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7703F-DC69-4EB1-B28E-52180D2D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8ABF-93EB-4171-814F-3C82ECDC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C267-FC35-4625-B243-F85F0D8B0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6072-90DD-4CA8-92CE-DD66318B7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B2494-A900-435F-BA52-BFC6958F0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CFB44-8F42-42CA-BAD9-E2D8B9E2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FF841-550F-47C6-90A9-0EA00A61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4931F-A4FC-41A8-9CB1-1B898EA1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D0AFD9-9D7E-48AF-AA04-098DF5388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9FC8-BEF8-4A6C-9F1E-E88929EB0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98E18-7861-4FD6-955C-59B91AC0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C1D90-D239-4AC1-8D47-00ED3FFCA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0B417-B3D7-461E-BEBB-155294EE0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088F5-FAFB-4EB2-AA3C-95616363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C7959-B902-4530-BFC9-71FF8CD6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10605-8FC6-4646-A72B-BCECACB1F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8C336-511D-420A-A0B8-D83870EE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9AC4C-7956-4756-ADDA-739E4F3A7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C0332-AEEA-4808-9E74-2E5EAAC5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B6496A-386F-4919-BE50-98AE8F41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513B-E6B6-449F-BB44-67B06150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25B3F-FE8B-4853-9C48-0AFFA51D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18800-17CD-4CA3-9313-24F7CDA7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CBA57-E6C1-45E8-8DB3-90736EA8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2E4D2-DD40-457D-A3EB-67B055D3C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78E51-AD5F-4C84-95BF-6D5CE28F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57204-787A-481B-9EA7-9892EB6C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0AFDE-0CFB-41DD-909B-014011538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F6632-18DD-4084-BD83-BAFAB6F7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806B7-6ADB-427B-B2F6-93519FC8D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6B576-7C87-46F2-8D38-5651E1A15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3F26-C6C6-4AB3-B1BD-2563A204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37BF1-66A6-4B64-8822-603590C1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1DB51E-6E2C-444F-81A8-3A4FC0033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828CD-7FA0-4A73-B758-317A4A22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CE800-DCFF-40AE-8FF6-3D6D00CE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303EA-9AA0-4282-AEFE-1611EE54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B88E5-2202-4F01-8B1C-87BF8F78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88732D-F13A-458D-A187-0980BC5A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6A05D-8726-4412-8DA8-9EDF8FEF5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B8973-00EB-40F9-8CFD-CC01607E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1FDA3-5894-4F93-B590-DBE408F08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6E7C-1D56-4924-A15E-E5252A3B5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CC79BC-8405-4518-80FF-348635655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9488-4148-43C8-A6D8-369C1306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A1F2-08AB-4F0B-A6B3-1FC5B210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141D-264E-4B99-8AA3-3DAC6E21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68C2D-4DA4-4627-8741-0DEDCF570A55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093E-4918-43FE-8777-D4F7A8C906E7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789F-F0A3-43A0-BF69-300EAA92398E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5362-463A-4045-B0EF-25155C7EE5A2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5880" cy="648000"/>
              <a:chOff x="-19080" y="203040"/>
              <a:chExt cx="915588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-2160" y="203040"/>
                <a:ext cx="91389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1920"/>
              <a:ext cx="9181080" cy="570240"/>
              <a:chOff x="-19080" y="241920"/>
              <a:chExt cx="9181080" cy="57024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9720" y="241920"/>
                <a:ext cx="9171720" cy="57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08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324E-4956-485D-8D0A-9C6F2C2888D8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1371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000" spc="-1" strike="noStrike">
                <a:solidFill>
                  <a:srgbClr val="dbf5f9"/>
                </a:solidFill>
                <a:latin typeface="Calibri"/>
              </a:rPr>
              <a:t> </a:t>
            </a:r>
            <a:r>
              <a:rPr b="1" lang="en-US" sz="4400" spc="-1" strike="noStrike">
                <a:solidFill>
                  <a:srgbClr val="dbf5f9"/>
                </a:solidFill>
                <a:latin typeface="Arial"/>
              </a:rPr>
              <a:t>NUCLEIC ACIDS - STRUCTURE AND FUNCTION</a:t>
            </a:r>
            <a:endParaRPr b="0" lang="en-US" sz="44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Learn Denaturation and Renaturation of DNA in 3 minutes."/>
          <p:cNvPicPr/>
          <p:nvPr/>
        </p:nvPicPr>
        <p:blipFill>
          <a:blip r:embed="rId2"/>
          <a:srcRect l="0" t="25558" r="0" b="0"/>
          <a:stretch/>
        </p:blipFill>
        <p:spPr>
          <a:xfrm>
            <a:off x="123840" y="1082520"/>
            <a:ext cx="889632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30592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Ribonucleic acid - RN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single chai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molecule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ibonucleotide contains the pentose sugar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ribose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nstead of thymine, the pyrimidine base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uracil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s represente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2" name="Picture 4" descr="dna_versus_rna_reversed"/>
          <p:cNvPicPr/>
          <p:nvPr/>
        </p:nvPicPr>
        <p:blipFill>
          <a:blip r:embed="rId1"/>
          <a:stretch/>
        </p:blipFill>
        <p:spPr>
          <a:xfrm>
            <a:off x="4343400" y="1371600"/>
            <a:ext cx="45529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rial"/>
              </a:rPr>
              <a:t>Types of RN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Picture 5" descr="Types of RNA | BioNinja"/>
          <p:cNvPicPr/>
          <p:nvPr/>
        </p:nvPicPr>
        <p:blipFill>
          <a:blip r:embed="rId1"/>
          <a:stretch/>
        </p:blipFill>
        <p:spPr>
          <a:xfrm>
            <a:off x="0" y="2019240"/>
            <a:ext cx="9144000" cy="28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8" name="Picture 2" descr="Functions Of Mrna Rrna And Trna – Otosection"/>
          <p:cNvPicPr/>
          <p:nvPr/>
        </p:nvPicPr>
        <p:blipFill>
          <a:blip r:embed="rId1"/>
          <a:stretch/>
        </p:blipFill>
        <p:spPr>
          <a:xfrm>
            <a:off x="1182600" y="0"/>
            <a:ext cx="677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 txBox="1"/>
          <p:nvPr/>
        </p:nvSpPr>
        <p:spPr>
          <a:xfrm>
            <a:off x="401760" y="2362320"/>
            <a:ext cx="4038480" cy="36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equence of DNA molecules that carries information for the synthesis of a functional produc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enes are distributed along the chromoso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533520"/>
            <a:ext cx="883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GENE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unit of hereditary in a living organis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1" name="Picture 7" descr="What Are Genes Made Of? Genes are segments of the DNA sequence | MelixGX"/>
          <p:cNvPicPr/>
          <p:nvPr/>
        </p:nvPicPr>
        <p:blipFill>
          <a:blip r:embed="rId1"/>
          <a:stretch/>
        </p:blipFill>
        <p:spPr>
          <a:xfrm>
            <a:off x="4710240" y="2362320"/>
            <a:ext cx="42163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Arial"/>
              </a:rPr>
              <a:t>Gene structure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51920" y="1980720"/>
            <a:ext cx="44197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pends on the arrangement and order of the 4 types of nucleotides (A type, G type, C type, T type of nucleotide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4" name="Picture 7" descr="DNA, Genes &amp; Chromosomes Overview"/>
          <p:cNvPicPr/>
          <p:nvPr/>
        </p:nvPicPr>
        <p:blipFill>
          <a:blip r:embed="rId1"/>
          <a:stretch/>
        </p:blipFill>
        <p:spPr>
          <a:xfrm>
            <a:off x="4952880" y="152280"/>
            <a:ext cx="3853080" cy="647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7200" y="990720"/>
            <a:ext cx="411480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aic structure of genes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ones and introne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ron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coding reg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on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reg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4" descr="RNA%20senthesis%20processing"/>
          <p:cNvPicPr/>
          <p:nvPr/>
        </p:nvPicPr>
        <p:blipFill>
          <a:blip r:embed="rId1"/>
          <a:srcRect l="0" t="0" r="0" b="75722"/>
          <a:stretch/>
        </p:blipFill>
        <p:spPr>
          <a:xfrm>
            <a:off x="1219320" y="4876920"/>
            <a:ext cx="5943600" cy="1447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Gene — Definition &amp; Role in Inheritance - Expii"/>
          <p:cNvPicPr/>
          <p:nvPr/>
        </p:nvPicPr>
        <p:blipFill>
          <a:blip r:embed="rId2"/>
          <a:stretch/>
        </p:blipFill>
        <p:spPr>
          <a:xfrm>
            <a:off x="4572000" y="976320"/>
            <a:ext cx="4484520" cy="35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Arial"/>
              </a:rPr>
              <a:t>Size of the gen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Its average length is around 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600-1800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base pairs (b</a:t>
            </a: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p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Arial"/>
                <a:ea typeface="Arial"/>
              </a:rPr>
              <a:t>Single nucletide size is 0,34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η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Number of gen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5998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n international research effort called the Human Genome Project, which worked to determine the sequence of the human genome and identify the genes that it contains, estimated that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humans have between 20,000 and 25,000 gen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very person has two copies of each gene, one inherited from each parent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2" name="Picture 7" descr="Gene Comparisons | BioNinja"/>
          <p:cNvPicPr/>
          <p:nvPr/>
        </p:nvPicPr>
        <p:blipFill>
          <a:blip r:embed="rId1"/>
          <a:stretch/>
        </p:blipFill>
        <p:spPr>
          <a:xfrm>
            <a:off x="441360" y="4103640"/>
            <a:ext cx="822960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 alleles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-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olymorphis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fferent forms of the same gene are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e alle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 alleles are caused by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mutation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s that have never mutated are monomorphic ge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enes that have mutated are polymorphic ge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huma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28% of genes are polymorph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72% of genes are monomorphic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 6.7% of genes are in the heterozygous sta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716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5000" spc="-1" strike="noStrike">
                <a:solidFill>
                  <a:srgbClr val="04617b"/>
                </a:solidFill>
                <a:latin typeface="Calibri"/>
              </a:rPr>
              <a:t>Human geno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2" descr="Genes and Chromosomes - Fundamentals - MSD Manual Consumer Version"/>
          <p:cNvPicPr/>
          <p:nvPr/>
        </p:nvPicPr>
        <p:blipFill>
          <a:blip r:embed="rId2"/>
          <a:stretch/>
        </p:blipFill>
        <p:spPr>
          <a:xfrm>
            <a:off x="1517760" y="1031760"/>
            <a:ext cx="6108480" cy="582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2" descr="Genetic Polymorphism in Drug Metabolism – CYP450 Isoenzymes - ppt download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 txBox="1"/>
          <p:nvPr/>
        </p:nvSpPr>
        <p:spPr>
          <a:xfrm>
            <a:off x="380880" y="1371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the set of genes in an organism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the set of genes in a cel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combination of gene alleles that determines a trait (A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genom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set of genes in a haploid chromosome se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369360" indent="-3693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Phenotyp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is a set of characteristics of an organism that result from the interaction of genotype and environmental factor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Pseudogenes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and</a:t>
            </a:r>
            <a:r>
              <a:rPr b="1" lang="sr-CS" sz="44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gene famil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7521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Pseudogenes - gene-like sequences (20,000 pseudogenes in the nuclear genom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Gene family - genes with similar nucleotide sequences located on different chromosomes and determining the same property (the Ig gene family on chromosomes 2, 14, 22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Constantia"/>
              </a:rPr>
              <a:t>Haplotype - genes located on the same chromosome and determining the same property (genes for the HLA system on chromosome 6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tochondrial genom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52280" y="167616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itochondrial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genome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nuclear genome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NA contains 16.569 bp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000. 000. 000 n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circular chromosome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romosomes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histones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histon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ing-over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ing-over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eparative mechanisms are slower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fficient reparatio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ntains only exons (on introns)             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aic structur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ach cell contain 1000’s of copies of mtDNA               1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py of nuclear DN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t codes for 37 genes, contains 22 tRNA an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2 rRNA genes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genes provide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s for making protei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0520" y="914040"/>
            <a:ext cx="8153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uman mtDNA ha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unique</a:t>
            </a:r>
            <a:r>
              <a:rPr b="1" i="1" lang="sr-C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genetic</a:t>
            </a:r>
            <a:r>
              <a:rPr b="1" i="1" lang="sr-Latn-CS" sz="2000" spc="-1" strike="noStrike">
                <a:solidFill>
                  <a:srgbClr val="0000ff"/>
                </a:solidFill>
                <a:latin typeface="Arial"/>
              </a:rPr>
              <a:t> cod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from nuclear code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GА and AGG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rginin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 mtDNA are stop codons,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GA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top codo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n mitochondri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tryptopha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st of the proteins needed in the mitochondria are synthesized in the cytoplasm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itochondrial genes determine phenotypic traits - maternal inheritance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euromuscular diseases are often the result of mtDNA mutation and are maternally transmitte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oxyribonucleic acid - DN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ries information for protein synthesis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 the ability to periodically chang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s the ability to self-reproduce,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is why it is labeled as a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hereditary substa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ondary structure of the DNA molecule was proposed by Watson and Crick in 195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152280" y="1447920"/>
            <a:ext cx="4191120" cy="44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NA molecule consists of two polynucleotide chains of complementary structure that are spirally wrapped around each other and connected by hydrogen bond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3826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ouble helix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3" descr="DNA"/>
          <p:cNvPicPr/>
          <p:nvPr/>
        </p:nvPicPr>
        <p:blipFill>
          <a:blip r:embed="rId1"/>
          <a:stretch/>
        </p:blipFill>
        <p:spPr>
          <a:xfrm>
            <a:off x="4724280" y="685800"/>
            <a:ext cx="2705400" cy="53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80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17b"/>
                </a:solidFill>
                <a:latin typeface="Arial"/>
              </a:rPr>
              <a:t>Basic building unit -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ucleotid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334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A nucleotide consists of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deoxyribose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 pentose suga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phosphate groups </a:t>
            </a: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PO</a:t>
            </a:r>
            <a:r>
              <a:rPr b="0" lang="sr-Latn-CS" sz="2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nitrogen bases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- purine or pyrimidine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Within one chain, nucleotides are interconnected by 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phosphodiester bond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-53352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Arial"/>
                <a:ea typeface="Arial"/>
              </a:rPr>
              <a:t>Depending on the type of base, we distinguish </a:t>
            </a:r>
            <a:r>
              <a:rPr b="0" lang="sr-Latn-CS" sz="2200" spc="-1" strike="noStrike">
                <a:solidFill>
                  <a:srgbClr val="ff0000"/>
                </a:solidFill>
                <a:latin typeface="Arial"/>
                <a:ea typeface="Arial"/>
              </a:rPr>
              <a:t>4 types of nucleotid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5335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5" name="Picture 5" descr="nuclei1"/>
          <p:cNvPicPr/>
          <p:nvPr/>
        </p:nvPicPr>
        <p:blipFill>
          <a:blip r:embed="rId1"/>
          <a:stretch/>
        </p:blipFill>
        <p:spPr>
          <a:xfrm>
            <a:off x="6248520" y="1143000"/>
            <a:ext cx="2203200" cy="2266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4" descr="nucleotides"/>
          <p:cNvPicPr/>
          <p:nvPr/>
        </p:nvPicPr>
        <p:blipFill>
          <a:blip r:embed="rId2"/>
          <a:stretch/>
        </p:blipFill>
        <p:spPr>
          <a:xfrm>
            <a:off x="5715000" y="3730680"/>
            <a:ext cx="32767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0" y="380880"/>
            <a:ext cx="9144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drogen bonds are formed between the complementary bases of the two opposite strands of the DNA molecul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he amount of guanine is equal to the amount of cytosine, and the amount of adenine is equal to the amount of thymine - that is, the quantity of purine is equal to the quantity of pyrimidine (</a:t>
            </a: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Chargaff's rule,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951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04760" y="4114800"/>
            <a:ext cx="2971800" cy="245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17b"/>
                </a:solidFill>
                <a:latin typeface="Arial"/>
              </a:rPr>
              <a:t>Hydrogen bond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sr-CS" sz="2000" spc="-1" strike="noStrike">
                <a:solidFill>
                  <a:srgbClr val="0000ff"/>
                </a:solidFill>
                <a:latin typeface="Arial"/>
              </a:rPr>
              <a:t>А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=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Т</a:t>
            </a:r>
            <a:br>
              <a:rPr sz="2000"/>
            </a:br>
            <a:br>
              <a:rPr sz="2000"/>
            </a:br>
            <a:r>
              <a:rPr b="1" lang="sr-Latn-CS" sz="20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1" lang="sr-C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≡С</a:t>
            </a:r>
            <a:br>
              <a:rPr sz="20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9" name="Picture 3" descr="DNA2"/>
          <p:cNvPicPr/>
          <p:nvPr/>
        </p:nvPicPr>
        <p:blipFill>
          <a:blip r:embed="rId1"/>
          <a:stretch/>
        </p:blipFill>
        <p:spPr>
          <a:xfrm>
            <a:off x="4648320" y="3505320"/>
            <a:ext cx="289548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Types of DNA sequences: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Single copy sequences (unique)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have one copy, functional, responsible for the synthesis of polypeptid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Middle repetitiv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(10-10 000 x) sequences - functional, responsible for the synthesis of tRNA and rRNA. And mRNA for histone synthesi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Arial"/>
              </a:rPr>
              <a:t>Highly repetitive sequences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repeated over 10 000 times - are not functional, satellite DNA in the centromere region of the chromosom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7.1 – 7.2 | darlagjames"/>
          <p:cNvPicPr/>
          <p:nvPr/>
        </p:nvPicPr>
        <p:blipFill>
          <a:blip r:embed="rId2"/>
          <a:stretch/>
        </p:blipFill>
        <p:spPr>
          <a:xfrm>
            <a:off x="870120" y="749160"/>
            <a:ext cx="7403760" cy="535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Denaturation and renaturatio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y heating the medium on which the DNA molecule is located, the hydrogen bonds are broken and the chains are separated -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denatu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By gradually cooling the medium, hydrogen bonds and the helicoidal structure are re-established - </a:t>
            </a: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renatur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f0000"/>
                </a:solidFill>
                <a:latin typeface="Arial"/>
              </a:rPr>
              <a:t>DNA hybridization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- a method for assessing genetic similarity between distant species, and in molecular genetics metho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7T11:26:11Z</dcterms:created>
  <dc:creator>Olivera</dc:creator>
  <dc:description/>
  <dc:language>en-US</dc:language>
  <cp:lastModifiedBy>Microsoft Office User</cp:lastModifiedBy>
  <dcterms:modified xsi:type="dcterms:W3CDTF">2022-10-31T12:59:42Z</dcterms:modified>
  <cp:revision>116</cp:revision>
  <dc:subject/>
  <dc:title>2-Humani genom</dc:title>
</cp:coreProperties>
</file>